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D9DB-A0D0-40B8-9B3B-3D8380EA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6CE-12CD-44FF-B655-4F0CD3A9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C486-D29E-46BB-B713-F84B77C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4E9-D258-4029-8E66-BEED80D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EE0-47C0-4B94-92FA-D72E21DB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442-8593-4F92-89D4-706E1B2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E67-42D7-4C56-B65C-34ACFA89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D59-C4CF-44B6-9104-331C3AD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951-1C67-4196-AFDE-F6829148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AA6-F6EE-40D1-B4C5-0FA2D11C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409-C1D0-4E91-B510-E59384B5C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A79-1DBE-4A4A-B3AE-6AFC063B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7B8-A4FF-4F0B-BBB2-EA6FA6E9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08F3-5253-42D8-8139-048E9039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F9AA-4E66-4CC2-A9F2-A620F8A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6579-73D0-4011-9F16-96E1B097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D088-06DE-4126-88E2-8EA08EC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056-3710-4E25-9432-460DD5E6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A8C6-3D84-4E6E-A46C-4949CC64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C35D-C08B-4B40-A90E-72BCB15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3364-601E-4F81-8FA2-F642C406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9595-7E8B-4720-912E-2636CDEB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BDB9-8D8F-43ED-A505-2D3C35C8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3C26-052A-4DD4-88EA-41D5F9E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2200" y="84240"/>
            <a:ext cx="438120" cy="474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04880" y="84240"/>
            <a:ext cx="328680" cy="4744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6040" y="506520"/>
            <a:ext cx="422280" cy="474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16120" y="50652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1680" y="43344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Rectangle 7"/>
          <p:cNvSpPr/>
          <p:nvPr/>
        </p:nvSpPr>
        <p:spPr>
          <a:xfrm flipV="1">
            <a:off x="50760" y="651960"/>
            <a:ext cx="1295280" cy="36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0200" y="4680"/>
            <a:ext cx="31680" cy="10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230720" y="2708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4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5297-1B63-4597-98AB-2BB6E8A2678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9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  <p:sp>
          <p:nvSpPr>
            <p:cNvPr id="9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00"/>
                </a:solidFill>
                <a:latin typeface="Arial Black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69F-A4D0-47A1-A33E-23447BA96842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>
            <a:off x="1116000" y="2924280"/>
            <a:ext cx="63374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一章   有理数总复习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686480" y="3044880"/>
            <a:ext cx="5443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学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科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宋体"/>
              </a:rPr>
              <a:t>网</a:t>
            </a:r>
            <a:endParaRPr b="1" lang="en-US" sz="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1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826920" y="3213000"/>
                <a:ext cx="762660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计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Text Box 12"/>
          <p:cNvSpPr/>
          <p:nvPr/>
        </p:nvSpPr>
        <p:spPr>
          <a:xfrm>
            <a:off x="0" y="119700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（二）、计算：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、已知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|x|=3,|y|=2,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且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x&lt;y,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则求</a:t>
            </a: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x+y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的值。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92520" y="4005360"/>
            <a:ext cx="76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、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31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</a:rPr>
              <a:t>当堂训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必做题：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 51   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选做题：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P51   7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767ff"/>
                </a:solidFill>
                <a:latin typeface="Arial"/>
              </a:rPr>
              <a:t>有理数小结与复习（一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6159600"/>
            <a:ext cx="822960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88ec41680f952ab7431694a7"/>
          <p:cNvPicPr/>
          <p:nvPr/>
        </p:nvPicPr>
        <p:blipFill>
          <a:blip r:embed="rId1"/>
          <a:stretch/>
        </p:blipFill>
        <p:spPr>
          <a:xfrm>
            <a:off x="-181080" y="0"/>
            <a:ext cx="10157040" cy="76168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7"/>
          <p:cNvSpPr txBox="1"/>
          <p:nvPr/>
        </p:nvSpPr>
        <p:spPr>
          <a:xfrm>
            <a:off x="971640" y="2421000"/>
            <a:ext cx="83516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有理数复习与小结（一）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78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复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复习有理数、相反数、绝对值、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等有关概念，构建知识结构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利用数轴把概念串在一起，提高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形结合的能力及用知识网络归纳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知识的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有理数进行分类，提高学生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处理数学问题的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16080"/>
            <a:ext cx="2952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Arial"/>
              </a:rPr>
              <a:t>自学指导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着以下问题复习课本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—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习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前的内容（时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左右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正负数、有理数的意义，有理数的分类方法有    几种？画数轴要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相反数的意义，怎样表示一个数的相反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什么叫绝对值？如何表示一个数的绝对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互为相反数的两个数绝对值有什么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会有这种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数的绝对值与它本身有什么关系？为什么会有这种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你有几种方法比较两个负数的大小？哪种方法更方便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0" y="134136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宋体"/>
              </a:rPr>
              <a:t>负数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    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数轴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互为相反数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互为倒数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的绝对值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有理数大小的比较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79280" y="47628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有理数的基本概念复习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【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知识点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】</a:t>
            </a:r>
            <a:endParaRPr b="1" lang="en-US" sz="44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68360" y="6669000"/>
            <a:ext cx="807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endParaRPr b="1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2232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3399"/>
                </a:solidFill>
                <a:latin typeface="Arial"/>
              </a:rPr>
              <a:t>自我检测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Arial"/>
              </a:rPr>
              <a:t>一、判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带“－”号的数都是负数。            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定是负数。                  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存在既不是正数，也不是负数的数。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０℃表示没有温度。                   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增加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实际的意思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甲比乙大－３表示的意思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绝对值表示它离开原点的距离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，记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-8|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|-5|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绝对值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数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绝对值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整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绝对值等于它本身的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绝对值不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负整数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绝对值分别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且在数轴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点在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点左侧，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224320" y="1125360"/>
            <a:ext cx="1251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±1</a:t>
            </a:r>
            <a:endParaRPr b="1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051240" y="220500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零和正数</a:t>
            </a:r>
            <a:endParaRPr b="1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062760" y="3432240"/>
            <a:ext cx="140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1,-2,-3</a:t>
            </a:r>
            <a:endParaRPr b="1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7956720" y="53737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250920" y="0"/>
            <a:ext cx="266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 Black"/>
              </a:rPr>
              <a:t>提高检测：</a:t>
            </a:r>
            <a:endParaRPr b="1" lang="en-US" sz="36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027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3399"/>
                </a:solidFill>
                <a:latin typeface="Arial"/>
              </a:rPr>
              <a:t>自我检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把下列各数填在相应的大括号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78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3.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5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整数集｛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有理数集｛              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有理数集｛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整数集｛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数集｛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；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正分数集｛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负分数集｛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67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3399"/>
                </a:solidFill>
                <a:latin typeface="Arial"/>
              </a:rPr>
              <a:t>提高检测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一）、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绝对值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整数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绝对值等于它本身的数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绝对值不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负整数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绝对值分别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且在数轴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在表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点左侧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值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1)   +|y+4|=0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5y=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-3|+ |3a-4b|=0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a+8b=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 7 |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　）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- 7 |=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　　）， 绝对值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数是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3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+|4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=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496600" y="3860640"/>
            <a:ext cx="3117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99"/>
                </a:solidFill>
                <a:latin typeface="Arial Black"/>
              </a:rPr>
              <a:t>2</a:t>
            </a:r>
            <a:endParaRPr b="1" lang="en-US" sz="18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04:37:21Z</dcterms:created>
  <dc:creator>User</dc:creator>
  <dc:description/>
  <dc:language>en-US</dc:language>
  <cp:lastModifiedBy>Administrator</cp:lastModifiedBy>
  <dcterms:modified xsi:type="dcterms:W3CDTF">2014-11-06T14:08:41Z</dcterms:modified>
  <cp:revision>123</cp:revision>
  <dc:subject/>
  <dc:title>PowerPoint 演示文稿</dc:title>
</cp:coreProperties>
</file>